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D641-6B14-4FD8-AA3A-E1E9F1BC9F3C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CF4-5ED7-4D7D-92CC-1E315DDC1B1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C1F-3C41-4752-8CFA-639E92F0EA2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5072-4BC0-4F74-9D11-88FCE8B0A27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808-40AC-49C5-AE03-031790B57E9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801-D0E4-462D-B772-9DE262B99A2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ADE3-D3FF-419B-8C8F-259362BD637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D97-38BB-47DC-B029-6D47275F5D2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142-C0F7-4422-8F66-5B0A8CBF25A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156-435A-4D34-94DB-38C4DEC42E6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Espace réservé du numéro de diapositive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323-D3A9-47A0-AE7F-B19CED6938A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9E8-7FAE-4176-8651-6D10A811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B3F-8AC9-433E-A286-06F06496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04A-E48E-4B56-9BF0-7CFC6EA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6E1-1456-4B00-A69E-311B4AE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8C1-6A9A-4CEE-86BE-24DB614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E13-365D-4B67-B686-69653B2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4F7-7DD5-4B50-A4AF-AF1EF1C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8CD-30AE-49B9-BA7A-D395622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66-1B9E-4545-8B0A-3B212AB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FA3-AF15-44CB-A311-8D75AAE6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0C9-00F0-4D62-98C6-066B68AC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A8C-8893-4A91-A45D-2626008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4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87" name="Image 2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88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2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2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Image 7" descr="Bande verte.png"/>
          <p:cNvPicPr/>
          <p:nvPr/>
        </p:nvPicPr>
        <p:blipFill>
          <a:blip r:embed="rId2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466" name="Image 6" descr="ligne verte.png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467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0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0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285840" y="2500200"/>
            <a:ext cx="8858160" cy="30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45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46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age 1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584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585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623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24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Image 7" descr="Bande verte.png"/>
          <p:cNvPicPr/>
          <p:nvPr/>
        </p:nvPicPr>
        <p:blipFill>
          <a:blip r:embed="rId2"/>
          <a:srcRect l="0" t="23958" r="-4536" b="0"/>
          <a:stretch/>
        </p:blipFill>
        <p:spPr>
          <a:xfrm>
            <a:off x="0" y="1643040"/>
            <a:ext cx="357120" cy="5214960"/>
          </a:xfrm>
          <a:prstGeom prst="rect">
            <a:avLst/>
          </a:prstGeom>
          <a:ln w="0">
            <a:noFill/>
          </a:ln>
        </p:spPr>
      </p:pic>
      <p:pic>
        <p:nvPicPr>
          <p:cNvPr id="662" name="Image 7" descr="ligne verte.png"/>
          <p:cNvPicPr/>
          <p:nvPr/>
        </p:nvPicPr>
        <p:blipFill>
          <a:blip r:embed="rId3"/>
          <a:stretch/>
        </p:blipFill>
        <p:spPr>
          <a:xfrm>
            <a:off x="0" y="163044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663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0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0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THEME BNQ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"/>
          <p:cNvSpPr/>
          <p:nvPr/>
        </p:nvSpPr>
        <p:spPr>
          <a:xfrm>
            <a:off x="285840" y="2143080"/>
            <a:ext cx="8858160" cy="3500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4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4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fef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78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78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"/>
          <p:cNvSpPr/>
          <p:nvPr/>
        </p:nvSpPr>
        <p:spPr>
          <a:xfrm>
            <a:off x="285840" y="2143080"/>
            <a:ext cx="8858160" cy="3143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Image 2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22" name="Image 3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823" name="Image 4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86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"/>
          <p:cNvSpPr/>
          <p:nvPr/>
        </p:nvSpPr>
        <p:spPr>
          <a:xfrm>
            <a:off x="285840" y="214308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0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0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1"/>
          <p:cNvSpPr/>
          <p:nvPr/>
        </p:nvSpPr>
        <p:spPr>
          <a:xfrm>
            <a:off x="285840" y="2643120"/>
            <a:ext cx="8858160" cy="2928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4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4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1"/>
          <p:cNvSpPr/>
          <p:nvPr/>
        </p:nvSpPr>
        <p:spPr>
          <a:xfrm>
            <a:off x="285840" y="2214720"/>
            <a:ext cx="8858160" cy="342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Image 7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982" name="Image 8" descr="Bande Orange.png"/>
          <p:cNvPicPr/>
          <p:nvPr/>
        </p:nvPicPr>
        <p:blipFill>
          <a:blip r:embed="rId3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983" name="Image 9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21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22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06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06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"/>
          <p:cNvSpPr/>
          <p:nvPr/>
        </p:nvSpPr>
        <p:spPr>
          <a:xfrm>
            <a:off x="285840" y="1447920"/>
            <a:ext cx="8858160" cy="518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Image 6" descr="BNQ2100_COuleur_small.png"/>
          <p:cNvPicPr/>
          <p:nvPr/>
        </p:nvPicPr>
        <p:blipFill>
          <a:blip r:embed="rId2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00" name="Image 7" descr="Bande Orange.png"/>
          <p:cNvPicPr/>
          <p:nvPr/>
        </p:nvPicPr>
        <p:blipFill>
          <a:blip r:embed="rId3"/>
          <a:srcRect l="0" t="19787" r="0" b="0"/>
          <a:stretch/>
        </p:blipFill>
        <p:spPr>
          <a:xfrm>
            <a:off x="0" y="1357200"/>
            <a:ext cx="341280" cy="5500800"/>
          </a:xfrm>
          <a:prstGeom prst="rect">
            <a:avLst/>
          </a:prstGeom>
          <a:ln w="0">
            <a:noFill/>
          </a:ln>
        </p:spPr>
      </p:pic>
      <p:pic>
        <p:nvPicPr>
          <p:cNvPr id="110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57920"/>
            <a:ext cx="142056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Image 9" descr="ligne orange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3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4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Image 6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179" name="Image 7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180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Image 1" descr="Bande Orange.png"/>
          <p:cNvPicPr/>
          <p:nvPr/>
        </p:nvPicPr>
        <p:blipFill>
          <a:blip r:embed="rId2"/>
          <a:srcRect l="0" t="14579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20" name="Image 2" descr="BNQ2100_COuleur_small.png"/>
          <p:cNvPicPr/>
          <p:nvPr/>
        </p:nvPicPr>
        <p:blipFill>
          <a:blip r:embed="rId3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  <p:pic>
        <p:nvPicPr>
          <p:cNvPr id="1221" name="Image 8" descr="ligne orange_1pt.png"/>
          <p:cNvPicPr/>
          <p:nvPr/>
        </p:nvPicPr>
        <p:blipFill>
          <a:blip r:embed="rId4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285840" y="1219320"/>
            <a:ext cx="8858160" cy="541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Bande verte.png"/>
          <p:cNvPicPr/>
          <p:nvPr/>
        </p:nvPicPr>
        <p:blipFill>
          <a:blip r:embed="rId2"/>
          <a:srcRect l="0" t="14583" r="0" b="0"/>
          <a:stretch/>
        </p:blipFill>
        <p:spPr>
          <a:xfrm>
            <a:off x="0" y="1000080"/>
            <a:ext cx="341280" cy="5857920"/>
          </a:xfrm>
          <a:prstGeom prst="rect">
            <a:avLst/>
          </a:prstGeom>
          <a:ln w="0">
            <a:noFill/>
          </a:ln>
        </p:spPr>
      </p:pic>
      <p:pic>
        <p:nvPicPr>
          <p:cNvPr id="1260" name="Image 7" descr="ligne verte.pn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12600"/>
          </a:xfrm>
          <a:prstGeom prst="rect">
            <a:avLst/>
          </a:prstGeom>
          <a:ln w="0">
            <a:noFill/>
          </a:ln>
        </p:spPr>
      </p:pic>
      <p:pic>
        <p:nvPicPr>
          <p:cNvPr id="1261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3A28-F37C-4B69-970B-B77F04095F87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7" descr="Interrogation.png"/>
          <p:cNvPicPr/>
          <p:nvPr/>
        </p:nvPicPr>
        <p:blipFill>
          <a:blip r:embed="rId3"/>
          <a:stretch/>
        </p:blipFill>
        <p:spPr>
          <a:xfrm>
            <a:off x="-28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ville.png"/>
          <p:cNvPicPr/>
          <p:nvPr/>
        </p:nvPicPr>
        <p:blipFill>
          <a:blip r:embed="rId2"/>
          <a:stretch/>
        </p:blipFill>
        <p:spPr>
          <a:xfrm>
            <a:off x="-101520" y="1752480"/>
            <a:ext cx="9347040" cy="70106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2" descr="Bande rouge.png"/>
          <p:cNvPicPr/>
          <p:nvPr/>
        </p:nvPicPr>
        <p:blipFill>
          <a:blip r:embed="rId3"/>
          <a:stretch/>
        </p:blipFill>
        <p:spPr>
          <a:xfrm>
            <a:off x="0" y="0"/>
            <a:ext cx="341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Pyramidehumaine new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Image 8" descr="BNQ2100_Blanc.png"/>
          <p:cNvPicPr/>
          <p:nvPr/>
        </p:nvPicPr>
        <p:blipFill>
          <a:blip r:embed="rId4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Image 6" descr="Fond ver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8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31" name="Image 9" descr="Rangee fleches vertes.png"/>
          <p:cNvPicPr/>
          <p:nvPr/>
        </p:nvPicPr>
        <p:blipFill>
          <a:blip r:embed="rId4"/>
          <a:stretch/>
        </p:blipFill>
        <p:spPr>
          <a:xfrm>
            <a:off x="500040" y="5572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age 6" descr="Fond gr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Image 7" descr="BNQ2100_Blanc.png"/>
          <p:cNvPicPr/>
          <p:nvPr/>
        </p:nvPicPr>
        <p:blipFill>
          <a:blip r:embed="rId3"/>
          <a:stretch/>
        </p:blipFill>
        <p:spPr>
          <a:xfrm>
            <a:off x="7286760" y="5826240"/>
            <a:ext cx="1420560" cy="603000"/>
          </a:xfrm>
          <a:prstGeom prst="rect">
            <a:avLst/>
          </a:prstGeom>
          <a:ln w="0">
            <a:noFill/>
          </a:ln>
        </p:spPr>
      </p:pic>
      <p:pic>
        <p:nvPicPr>
          <p:cNvPr id="270" name="Image 8" descr="Rangee fleches grises.png"/>
          <p:cNvPicPr/>
          <p:nvPr/>
        </p:nvPicPr>
        <p:blipFill>
          <a:blip r:embed="rId4"/>
          <a:stretch/>
        </p:blipFill>
        <p:spPr>
          <a:xfrm>
            <a:off x="500040" y="571680"/>
            <a:ext cx="279360" cy="537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Image 6" descr="ligne verte.pn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12960"/>
          </a:xfrm>
          <a:prstGeom prst="rect">
            <a:avLst/>
          </a:prstGeom>
          <a:ln w="0">
            <a:noFill/>
          </a:ln>
        </p:spPr>
      </p:pic>
      <p:pic>
        <p:nvPicPr>
          <p:cNvPr id="308" name="Image 7" descr="Bande verte.png"/>
          <p:cNvPicPr/>
          <p:nvPr/>
        </p:nvPicPr>
        <p:blipFill>
          <a:blip r:embed="rId3"/>
          <a:srcRect l="0" t="19790" r="-4536" b="0"/>
          <a:stretch/>
        </p:blipFill>
        <p:spPr>
          <a:xfrm>
            <a:off x="0" y="1357200"/>
            <a:ext cx="357120" cy="5500800"/>
          </a:xfrm>
          <a:prstGeom prst="rect">
            <a:avLst/>
          </a:prstGeom>
          <a:ln w="0">
            <a:noFill/>
          </a:ln>
        </p:spPr>
      </p:pic>
      <p:pic>
        <p:nvPicPr>
          <p:cNvPr id="309" name="Image 8" descr="BNQ2100_COuleur_small.png"/>
          <p:cNvPicPr/>
          <p:nvPr/>
        </p:nvPicPr>
        <p:blipFill>
          <a:blip r:embed="rId4"/>
          <a:stretch/>
        </p:blipFill>
        <p:spPr>
          <a:xfrm>
            <a:off x="7223040" y="5826240"/>
            <a:ext cx="142092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5638320" y="289548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Les engagements en développement durable de l’organisation xy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oneTexte 1"/>
          <p:cNvSpPr/>
          <p:nvPr/>
        </p:nvSpPr>
        <p:spPr>
          <a:xfrm>
            <a:off x="6477120" y="4836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Période couver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Arial"/>
              </a:rPr>
              <a:t>Du … a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ZoneTexte 2"/>
          <p:cNvSpPr/>
          <p:nvPr/>
        </p:nvSpPr>
        <p:spPr>
          <a:xfrm>
            <a:off x="1219320" y="58672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Préparé pa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0000"/>
                </a:solidFill>
                <a:latin typeface="Arial"/>
              </a:rPr>
              <a:t>Da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ZoneTexte 6"/>
          <p:cNvSpPr/>
          <p:nvPr/>
        </p:nvSpPr>
        <p:spPr>
          <a:xfrm>
            <a:off x="380880" y="65278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000" spc="-1" strike="noStrike">
                <a:solidFill>
                  <a:srgbClr val="bfbfbf"/>
                </a:solidFill>
                <a:latin typeface="Arial"/>
              </a:rPr>
              <a:t>Mise à jour : 2012-11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Image 1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4419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762120" y="88848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Contexte économ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Grands enjeux du secteu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Défis pour l’organ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a manière dont l’organisation va relever les déf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s convictions liées au développement dura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Le pilotage du développement durable à l’inter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ff0000"/>
                </a:solidFill>
                <a:latin typeface="Arial"/>
                <a:ea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ts val="43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oneTexte 4"/>
          <p:cNvSpPr/>
          <p:nvPr/>
        </p:nvSpPr>
        <p:spPr>
          <a:xfrm>
            <a:off x="5335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68222"/>
                </a:solidFill>
                <a:latin typeface="Arial"/>
              </a:rPr>
              <a:t>Mot du pré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Qui sommes-no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Bref rappel des faits saillants de l’organis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bre d’employ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Situation géograph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activ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scription des produits et des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ypes de clientè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istinction dans le march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Vision et stratég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28760" y="1371240"/>
            <a:ext cx="82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Où l’organisation se voit-elle dans 5, 10 ou 20 a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grandes orientations stratégiqu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accorde-t-elle à la prise en compte de l’intérêt des parties prenantes dans sa stratégie d’affair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Comment les parties prenantes seront-elles mises à contribution pour atteindre les objectif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Arial"/>
                <a:ea typeface="Arial"/>
              </a:rPr>
              <a:t>De quelle façon l’organisation maintiendra-t-elle le dialogue avec ses parties prenant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tre situation actu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À l’aide du rapport diagnostique BNQ 21000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a situation actuelle sur chacune des dimensions (transversale, économique, environnementale et sociale) de façon générale (utiliser l’échelle de progression de 1 à 5 pour situer votre organisatio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transmettre les faits sailla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Nos enga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86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Nommer les enjeux prioritai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Préciser les engagements en matière de développement durable pour la prochaine année (réf. : plan d’action BNQ 210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scrire les engagements dans une perspective de progression selon les dimensions (économique, environnementale, sociale et transversale) et démontrer que l’organisation agit globa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mment nous suivre dans notre é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8648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Informer sur les différents moyens dont l’organisation dispose ou disposera pour permettre aux différentes parties prenantes de suivre la progression et de participer au dialogue avec l’organisation (ex. : site Internet, assemblée générale, rapport annuel, sondage d’opinion, groupe de discuss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80520" y="214200"/>
            <a:ext cx="83343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fr-CA" sz="2800" spc="-1" strike="noStrike">
                <a:solidFill>
                  <a:srgbClr val="f68222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86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le importance l’organisation souhaite-t-elle donner à ce projet porte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De quelle manière la poursuite de la démarche de développement durable sera-t-elle utile à court, à moyen et à long term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ts val="33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Arial"/>
                <a:ea typeface="Arial"/>
              </a:rPr>
              <a:t>Quels seront les mécanismes pour assurer un ancrage de la culture de développement durable au sein de l’organis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0:22:23Z</dcterms:created>
  <dc:creator>emilie lapierre</dc:creator>
  <dc:description/>
  <dc:language>en-US</dc:language>
  <cp:lastModifiedBy>Charles Duchesne</cp:lastModifiedBy>
  <cp:lastPrinted>2012-09-17T21:41:20Z</cp:lastPrinted>
  <dcterms:modified xsi:type="dcterms:W3CDTF">2013-03-25T14:27:59Z</dcterms:modified>
  <cp:revision>838</cp:revision>
  <dc:subject/>
  <dc:title>Diapositive 1</dc:title>
</cp:coreProperties>
</file>